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BEE-2532-4AB9-A5EC-D2FDCF0E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23D-E119-4D12-BDE9-1F3DBC3C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8E9-B894-4F5D-B31F-4643E53E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7A8-1604-42A1-8E37-12D61D8A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DAC3-6EF4-4EF9-A3F4-630B05B7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2D51-DB34-499B-B43F-DB8E1AED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7532-18EB-4D78-9886-0CDA5CB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404-4F21-4921-91B1-D63029F3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83D7-5E1F-4848-BEB7-C826776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3275-8B60-4908-9A98-F3F3617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BEF2-4741-4168-A143-C57BC8C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B81-0CE7-419A-A4CD-E2C2CF34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5E3D-6C9A-4674-AEB9-E8BAD62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83A-10AE-4C30-93A8-6C5BFDC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44F-1D78-41A4-A55E-0D54E1E3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CB6E-9EC2-408B-A597-C30F28FB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6769-9EF3-4177-849A-3BF8CC78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D21-0A7A-427F-B2BC-647958A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E39-16C4-4304-8D76-8D331C37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D2B-AEBE-4246-B79D-A2071D6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3A3-DAA6-4AD2-B185-E8F714B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2E6-4CB8-47B6-86D0-EF529B6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B44-12EB-4F5C-BB9B-C451AA0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5E8-3A24-46CC-AAA8-8AB33A1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198A-EB09-4CCA-A28C-EFC40C82EC80}" type="slidenum">
              <a:rPr b="0" lang="tr-T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B49-3331-4E70-BF73-EF6F8B508D8F}" type="slidenum">
              <a:rPr b="0" lang="tr-T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6000"/>
            </a:b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FİİLLE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9560" y="28954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)Fiillerde Kip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lerde zaman,şahıs veya dilek bildiren, ek almış biçimlerine </a:t>
            </a: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ki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d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ipler ikiye ayrıl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( bildirme) kiple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ilek ( isteme) kiple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Haber Kipler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Zaman eklerinin hepsine birden haber kipleri d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kipleri şunlard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örülen ( di’li) geçmiş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ğrenilen ( miş’li ) geçmiş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mdiki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lece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niş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örülen Geçmiş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lere ‘-dı, -di, -du, -dü’ ekleri getirilerek yapılır. Anlatan kişi olaya bizzat tanık olmuş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raber yürüdük biz bu yollar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raber ıslandık yağan yağmur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p birlikte geziye git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Öğrenilen Geçmiş Zaman</a:t>
            </a:r>
            <a:br>
              <a:rPr sz="32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lere ‘-mış, -miş, -muş, -müş’ ekleri getirilrek yapılır. Daha çok başkasından duyulma, aktarılma,sonradan farkına varma anlamı taşır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aa! Çorabım kaçmış.(farkına var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varmış, bir yokmuş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i sormuşlar.(başkasından duy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emek güzel olmuş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16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Şimdiki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yor’ eki getirilerek yapılır. Eylem ile anlatış aynı zamanda gerçekleş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ers çalışı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idiyorum, gurbeti gönlümde duya du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yer var, biliyoru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şeyi söylemek mümkü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peyce yaklaşmışım, duyuyoru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latamı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74674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elece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–ecek, -acak’ ekleri getirilerek yapılır. İşin gelecekte yapılacağını bildi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nümden çekilirsen İstanbul görünec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erede olduğumu bileceğ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ktuba yazacak sözüm kalmad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ot: ’dır’ ekiyle birlikte kullanıldığında kesinlik anlamı taşır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rınki maç saat 14:00’te yapılacakt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eniş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r, -ar, -er’ ekleri getirilerek yapıl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i ancak ebediyetler eder isti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larım, ağlatama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ssederim,söyleyem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den sana sığınır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ç yolcusu yokmuş gibi sessizce alır y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llanmaz o kalkışta ne mendil ne de bir k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5438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Dilek Kipleri</a:t>
            </a:r>
            <a:br>
              <a:rPr sz="4000"/>
            </a:br>
            <a:r>
              <a:rPr b="1" lang="tr-TR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e dilek anlamı katan kiplerdir. Haber kipleri gibi belirgin bir zaman anlamı taşımazlar. 4’e ayrıl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ilek- şart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tek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reklilik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mir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Dilek-Şart Kip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se, -sa’ eki getirilerek yapılır. Fiilin yapılması dileğini bildi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taşındır” diyerek Kabe’yi diksem başı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Ruhumun vahyini duysam da geçirsem taşı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 Maraşlı Şeyhoğlu, evliyalar adağ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htına lanet olsun aşamadıysan bu dağ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 ki; a'sara gömülsen taşacaksın... Heyhat,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na gelmez bu ufuklar, seni almaz bu cih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İstek Kip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a, -e’ ekleri getirilerek yapılır. Fiilin yapılmasının istendiğini bildi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urşunlara geles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inle yine görüşel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na duyduklarımı anlatayı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nu böyle biles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ki yoktan ne çıkar fikr </a:t>
            </a: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elim bir kerre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-6098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leri şu başlıklar altında inceleyebiliriz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iiller (eyleml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iillerde k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iillerde anlam (kip, zaman) kaymas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pılarına göre fii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ereklilik Kip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malı, -meli’ ekleri getirilerek yapılır. Belirtilen işin yapılması gerektiğini bildirir.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“lâzım, gerek, icap eder” anlamlarını ve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ütün bunların üstüne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psinin üstüne sevda sözleri söylemeliyim </a:t>
            </a: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atanım milletim tüm insanlar kardeşlerim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onra sen gelmelisin dilimin ucuna adın gelmeli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dın kurtuluştur ama söylememeliyim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an kuşum umudum canım sevgilim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EMİR KİPİ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in gösterdiği hareketin emir biçiminde yapılması gerektiğini ifade e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öyle yanıma gelsin.(3.teki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çeri buyrunuz. (2.teki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ütfen işlerinizi iyi yapınız. (2.çoğu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Çeneni kapa. (2.teki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Çatma, kurban olayım, çehreni ey nazlı hilal!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Zamanlı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lere kip eklerinden sonra –idi, -imiş, -ise ekeylemlerinden biri getirilerek yapılı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ısacası, iki kip ekin üst üste gelmesi durumud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çe ayrıl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kaye birleşi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Rivayet birleşi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art birleşi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Hikaye Birleşi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ya da dilek kiplerindeki fiillerden birine -dı eki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kaye bileşik zamanı, eylemin geçmişte yapıldığını hikaye ederek anlatı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ahtayı ben sil-er-di-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4495680"/>
          <a:ext cx="5257800" cy="1889280"/>
        </p:xfrm>
        <a:graphic>
          <a:graphicData uri="http://schemas.openxmlformats.org/drawingml/2006/table">
            <a:tbl>
              <a:tblPr/>
              <a:tblGrid>
                <a:gridCol w="685800"/>
                <a:gridCol w="2210040"/>
                <a:gridCol w="1295280"/>
                <a:gridCol w="1066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ş za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kaye 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şi 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Rivayet Birleşi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ya da dilek kiplerinden birine – miş eki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Rivayet bileşik zamanı, eylemin başkasından duymuş gibi anlatımıdı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066680" y="3003840"/>
            <a:ext cx="622476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ahtayı hep ben sil - er - miş - 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4648320"/>
          <a:ext cx="5715000" cy="1888920"/>
        </p:xfrm>
        <a:graphic>
          <a:graphicData uri="http://schemas.openxmlformats.org/drawingml/2006/table">
            <a:tbl>
              <a:tblPr/>
              <a:tblGrid>
                <a:gridCol w="1257480"/>
                <a:gridCol w="1720800"/>
                <a:gridCol w="1698480"/>
                <a:gridCol w="10382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iş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man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vayet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şi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56"/>
          <p:cNvSpPr/>
          <p:nvPr/>
        </p:nvSpPr>
        <p:spPr>
          <a:xfrm>
            <a:off x="1800" y="3566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Şart Birleşi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kipinde fiillerden birine -se eki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art birleşik zamanı, eylemin yapılışını başka bir eylemin yapılışına şart koş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rın bize gel - ir - se - n sevini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47920" y="4572000"/>
          <a:ext cx="5715000" cy="1889280"/>
        </p:xfrm>
        <a:graphic>
          <a:graphicData uri="http://schemas.openxmlformats.org/drawingml/2006/table">
            <a:tbl>
              <a:tblPr/>
              <a:tblGrid>
                <a:gridCol w="1676160"/>
                <a:gridCol w="1447920"/>
                <a:gridCol w="1371600"/>
                <a:gridCol w="1219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iş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man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şart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şi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zamanlı fiiller ile ilgili örnekle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üzüme bu türlü bakmayacaktın. (Gelecek zamanın hikayes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ğmurlardan sonra büyürmüş başak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yveler sabırla olgunlaşırmış. (geniş zamanın rivayeti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 de gelecekmişsin.(Gelecek zamanın rivaye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nu daha önce yapmalıymışım. (Gereklilik kipinin rivaye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ülüyorsam mutlu olduğumdan değildir. (Şimdiki zamanın şart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C) Fiillerde Anlam Kayması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838080" y="1538280"/>
            <a:ext cx="830592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zaman kipinin ya da bir dilek kipinin başka bir kipin yerine kullanılmas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erslerime her hafta düzenli olarak çalışı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ser Selçuklulardan kalma olac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atih, o yıllarda pek çok sefer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ktubu yarın al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ütün soruları çözeceks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rkadaşlar, bundan sonra daha yoğun bir şekilde çalışıyoru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E) Yapılarına Göre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pılarına göre fiiller üç grupta incel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sit fiill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üremiş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leşik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8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asit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çbir yapım eki almamış fiillerd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üzel söz söyleyebilmek için güzel düşünmek gerek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ostluk bir şemsiyeye benzer.İnsan onları ancak kötü havalarda i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tediğim her şeyi yaptım;çünkü yapamayacağımı düşündüğüm şeyi isted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üyük adam büyük olduğunu; büyüklüğün küçüklük olduğunu bil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A) Fiiller( Eylemler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oluşu, bir durumu veya bir işi kip ve kişiye bağlayarak anlatan sözcüklere </a:t>
            </a:r>
            <a:r>
              <a:rPr b="0" i="1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fii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d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Türemiş Fiiller</a:t>
            </a:r>
            <a:br>
              <a:rPr sz="2800"/>
            </a:br>
            <a:r>
              <a:rPr b="1" lang="tr-TR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pım eki almış fiillerdir. Türkçede fiil türetmenin iki yolu vard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im kök ya da gövdelerinden fiil türet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 güzel-leş, *sarı-ar, *ışıl-da, *göz-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az-al, *ben-imse, *ince-l, *düz-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su- sa, * sivri-l, *yaş-a, * kan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den fiil türetme: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 sev-in, *çık-ar, * kız-ış, *bak-ı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 öl-dür, * taşı-t, *at-ıl, *kan-dır, *koş-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n az iki sözcüğün birleşmesiyle oluşa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ç grupta incelen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lamca kaynaşmış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rdımcı fiiller yapılan birleşik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zel kurallı birleşik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Anlamca Kaynaşmış 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isimle bir fiilin anlam yönünden birleşip  kaynaşmasıyla oluş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sözcüklerden biri  ya da ikisi gerçek anlamını yitirir. Deyimlerin çoğu bu türe örnek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 kimsin ki bana kafa tutuyorsu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tehditlerinle gözümü korkutamazsı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nemin yemekleri hoşuna gitti m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Odasında kitaplarına göz atıyord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dama laf anlatmaktan dilimde tüy bit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onuşulanlara ben de kulak kabartt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Yardımcı Fiillerle Yapılan 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im soylu bir sözcüğün üzerine -et , -ol , -kıl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-eyle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ibi yardımcı eylemler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ven bu gönül seni asla terk etmeyec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yat uykuyla uyanıklık arasında raks e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usanç duyan gözlerim bir şeyde karar kıld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yreyleyelim mehtabı yıldızların altında</a:t>
            </a:r>
            <a:r>
              <a:rPr b="0" lang="tr-TR" sz="9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-7329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68544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Tahoma"/>
              </a:rPr>
              <a:t>Birleşik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Fiiller (Dev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UYARI 1: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türle yapılan birleşik fiilin isim kısmında bir ünlü düşmesi ya da bir ünsüz türemesi varsa birleşik fiil bitişik yazılır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nliğime hakim olur bir deli rüz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gün bana döneceğini hissedi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ma dönsen de seni asla affetmeyeceğ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breden derviş muradına ermiş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197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Fiiller (Devam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UYARI 2 :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t-, ol- yardımcı eylemleri tek başına bir anlam taşıyorsa  ve önündeki isimle kaynaşmamışsa kendi görevinde kullanılmış demektir yani asıl fiil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öyümüzde şimdi kirazlar olmuş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lindeki gömlek ancak beş milyon lira e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n ettim sen et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Özel (Kurallı) 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ki fiilin birleşmesi yoluyla oluşur. Tamamı bitişik yaz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ört grupta incelen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eterlilik fii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zlik birleşik fi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üreklilik birleşik fi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klaşma fii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5438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Yeterlilik Fiili </a:t>
            </a:r>
            <a:r>
              <a:rPr b="1" lang="tr-TR" sz="4400" spc="-1" strike="noStrike">
                <a:solidFill>
                  <a:srgbClr val="eaeaea"/>
                </a:solidFill>
                <a:latin typeface="Tahoma"/>
              </a:rPr>
              <a:t>( </a:t>
            </a: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 + ebil-</a:t>
            </a:r>
            <a:r>
              <a:rPr b="1" lang="tr-TR" sz="4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ümleye gücü yetme ve olasılık anlamı katar. Fiilin üzerine e-bilmek getirilerek oluşturul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genç yaşımda ölebiliri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irlerimi söylemeden gidebilirim buralard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gece ansızın gelebiliri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vinçten kapında bayılabilir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ınıfı geçebilir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Tezlik Birleşik Fiil (Fiil+iver-)</a:t>
            </a:r>
            <a:r>
              <a:rPr b="1" lang="tr-TR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ümleye tezlik çabukluk anlamı ka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Uzanıp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tutuver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elimi ne olur geri dö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kşamın derin kızıllığın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kayboluverd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Uzanıverse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gövdem taşlara boydan bo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olisler kaçan hırsızı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yakalayıverd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nesini görünce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koşuverd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ahoma"/>
              </a:rPr>
              <a:t>Süreklilik Birleşik </a:t>
            </a: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 (fiil+ edur, kal,  gel):</a:t>
            </a:r>
            <a:r>
              <a:rPr b="1" lang="tr-TR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ümleye devam etme, süreklilik anlamı ka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hikaye yıllardır süregel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evizyonun karşısında uyuyakalmış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idedursun turnalar, gurbet ell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istede ismimi göremeyince listeye bakakald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ler (Devam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ratik olarak ismi fiilden ayırmak için –me, -ma olumsuzluk ekini ya da –me, -ma mastar ekini kullanırı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Yaklaşma Fiil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in gerçekleşmesine çok az bir zaman kaldığını ifade eder. Az kalsın olacaktı anlamı ve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aldırımda yürürken düşeyazd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Onu karşımda görünce korkudan öleyazdı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379760" y="946800"/>
            <a:ext cx="34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Tahoma"/>
              </a:rPr>
              <a:t>(fiil+ eyaz)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Arial"/>
              </a:rPr>
              <a:t>Fiiller (Devam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ğer bir kelimenin sonuna olumsuzluk ekini ve mastar ekini getirebiliyorsak o kelime fiildir, getiremiyorsak isim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ldi…gelmedi, gelm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Oturmuş…oturmamış, oturm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öylüyorum…söylemiyorum, söylem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Kitap…kitapma, kitapm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ler, anlamlarına göre üçe ayrılı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ş fiil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urum fiil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luş fiil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İş Fiiller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esne alan, hareket bildiren ve ‘neyi,kimi’ sorularına cevap vere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ırmak, atmak, dikmek, içm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ba koruk yer, oğlunun dişi kamaşı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işi olsa olsa sen yaparsı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Durum Fiilleri</a:t>
            </a:r>
            <a:br>
              <a:rPr sz="32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esne almayan, öznenin içinde bulunduğu durumu göstere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ürümek, oturmak, gitmek, ağlam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u uyur, düşman uyuma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an çıkar, huy çıkma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Oluş Fiilleri</a:t>
            </a:r>
            <a:br>
              <a:rPr sz="32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endiliğinden ve zaman içerisinde gerçekleşe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rarmak, yaşlanmak, uzam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ine yeşillendi fındık dallar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nç yaşta ağardı saçlar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ÖZCAN AK</cp:lastModifiedBy>
  <dcterms:modified xsi:type="dcterms:W3CDTF">2011-01-02T15:24:4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